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523-DA01-4244-A993-2B5BB637E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161-DB47-42B4-B7A7-D77BC9755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196-47CD-4008-BB03-6704A046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E0F0-10B5-43C7-95EA-7255B837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44DD-7A06-4575-8C29-8FF9B4BB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BBDE-5E81-4C1F-9B2A-86669081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B31A-53AB-451D-9B89-82150ACB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0363-AA66-4167-9E3C-F168A8A6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6580-6B1D-41FB-B4F3-B9730FF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3A088-C611-46DE-ABA7-DD7324EC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3154-F244-4889-A779-ACE1CFD7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946-2B1A-428E-904D-001790448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931D-867A-46FB-A6E2-80383AE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5A8-FCB6-429D-A8A9-30602DB1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75E0-9E46-4672-BF2E-553AFA533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6B2A-3ABF-4203-BF92-5227D347E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EB6F6-F095-4696-82BD-DF7C2368E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03EC7-B6BC-455C-886A-ACA55CDB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1E11-DF5F-438A-857C-4FC5E0EC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A6F3C-1F3E-45DE-AFBF-8F4FFF9A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F415A-DC06-48E8-8B7D-56D79E5A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E4E92-1BAE-448A-9991-327D21EF3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578-B2E7-46FA-9DA4-7BF8AD4D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BCBD2-66B8-4858-AE0A-5DF9199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C8DE-719F-4E7E-846C-FCB13A7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59130-9AB5-4E2F-9B34-25E441B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153E-166B-4C05-B2ED-08F1426C9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ADCF-388D-445E-8B2A-ECBEAFEF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1628-A4CA-4970-8FC0-D7064398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DE27-6D12-4B0D-AB86-8DEA734E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20550-301C-4344-8F54-C17A09BA2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FCC53-FDC4-4193-84CC-40B47B6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7F7FF-6834-46A9-93D2-2100735A5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92AE-4555-4530-8CB0-D8193B79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2D2E9-D924-491C-B5F4-E93A6CE7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CF73-FBC2-42FF-B9CE-E6117BE7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D0967-CCBF-4395-803D-CDD8A4C2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86BFD-528E-4625-BDC1-E5FAE305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918DF-B60A-4984-A8DA-6CBFDB04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C7E1F-0010-4C1C-B80F-7EB7438E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6F799-D4CE-4AB1-806B-4EEB7049F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66123-6B35-4CAD-B895-1253D49F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D70C4-96CE-4F0D-A0DB-5EF4CB1BF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787E1-7CB3-4E0B-A76E-78B687436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C60-8733-46C0-A18E-F9F57DA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84A0F-07E8-4807-BD76-6989E74B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71CE-010B-4515-8AF1-F77539762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F39E-A317-41B2-89DD-D269A47CC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9E3C-4F3A-492D-94EA-68E9BB7F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13A04-04D2-4DB0-9A26-D4935A2E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970F9-DB22-4F23-AC4A-0EDDC6F9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D533A-CC27-4FF7-AB8E-939E1D4C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92E97-2D4D-4486-B922-BF96DD04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BB9C7-5C56-49B2-8AA0-2F7C3E7A6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B156D-561A-40F0-938C-38F2B958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48C-FFA1-4224-AB3B-0812F42D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9315B-29E9-44EB-9426-981F1084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5966B6-2E0F-4720-86EC-C6AFF62D8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3904F-DF6E-402D-ADD0-E10B8AD9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C6E8-FEE6-4D94-83C0-F4948497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4F407-ECBE-477F-8A8B-B17FF58C5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95F97-43B6-469B-B633-049BAF1F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880B4-1450-41A9-A9AA-2C050071B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6A31C-DAAC-41F9-9589-CE3BBF2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B9011-110F-416C-AEA4-CD11BACF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58154-BFD1-4291-9187-F858817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2C70-B58D-444A-98E9-CF858BF3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62EBE-8E49-40DA-ACF8-6B5B5513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6B8A-BD3A-43A2-BBA8-C2E368D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A52AD-805D-48A0-944E-62B5B3B3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B19-E48E-430D-9666-1462E705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032-CFDC-4AF9-ABCC-6232E50D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D2238-9E57-420A-B734-64C2497C9E2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3A50-7959-41A1-BA78-F63089F503B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C2EE-CEBF-4851-B37E-705C0905CD42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0108-ECE9-4B55-A8C8-9B02447F3B5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97B7-F58B-4E87-9652-BC737A93572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695C2-511C-464B-8887-709CBEF10216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lickr.com/creativecommon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Title 1" descr=""/>
          <p:cNvPicPr/>
          <p:nvPr/>
        </p:nvPicPr>
        <p:blipFill>
          <a:blip r:embed="rId1"/>
          <a:stretch/>
        </p:blipFill>
        <p:spPr>
          <a:xfrm>
            <a:off x="396720" y="3157560"/>
            <a:ext cx="8375760" cy="187812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85440" y="1828440"/>
            <a:ext cx="8077320" cy="150012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By: Brittany McDevitt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The Chambe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H:\New Folder\the sitter\volum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4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7000" fill="hold"/>
                                        <p:tgtEl>
                                          <p:spTgt spid="2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:\New Folder\the sitter\pho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H:\New Folder\the sitter\man laug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8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8000" fill="hold"/>
                                        <p:tgtEl>
                                          <p:spTgt spid="2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H:\New Folder\the sitter\girl on phone with operato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4000" fill="hold"/>
                                        <p:tgtEl>
                                          <p:spTgt spid="2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4" descr="police-officer-pic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93" name="Recorded Sound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6000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000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H:\New Folder\the sitter\pho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10000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5" descr="cell_phone_cop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pic>
        <p:nvPicPr>
          <p:cNvPr id="297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8000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5" descr="6a00e54ffe2ad38833011168a4e3b6970c-400w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99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5" descr="chef_knife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pic>
        <p:nvPicPr>
          <p:cNvPr id="301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11000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3045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          </a:t>
            </a: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THE END!!!</a:t>
            </a:r>
            <a:endParaRPr b="0" lang="en-US" sz="6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gsuh"/>
                <a:ea typeface="Gungsuh"/>
              </a:rPr>
              <a:t>In the town of Radnor, everyone loves to go out on Friday nights.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Pictures found: </a:t>
            </a:r>
            <a:r>
              <a:rPr b="0" lang="en-US" sz="3200" spc="-1" strike="noStrike" u="sng">
                <a:solidFill>
                  <a:srgbClr val="168bba"/>
                </a:solidFill>
                <a:uFillTx/>
                <a:latin typeface="Corbel"/>
                <a:hlinkClick r:id="rId1"/>
              </a:rPr>
              <a:t>http://www.flickr.com/creativecommons/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usic Found:   THE CHAMBER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ttp://incompetech.com/m/c/royalty-free/index.html?feels%5B%5D=Dark&amp;feels%5B%5D=Suspenseful&amp;Search=Search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6" name="The Chamber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116504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gsuh"/>
                <a:ea typeface="Gungsuh"/>
              </a:rPr>
              <a:t>One eerie night a young Radnor girl was babysitting.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marL="43812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ungsuh"/>
                <a:ea typeface="Gungsuh"/>
              </a:rPr>
              <a:t>What happened that night is still talked about to this day.  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272" name="Picture 3" descr="H:\New Folder\the sitter\young coup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000" fill="hold"/>
                                        <p:tgtEl>
                                          <p:spTgt spid="2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275" name="Picture 3" descr="H:\New Folder\the sitter\babysitte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pic>
        <p:nvPicPr>
          <p:cNvPr id="276" name="Recorded Sound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6000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H:\New Folder\the sitter\child sleep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8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0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3" descr="H:\New Folder\the sitter\phon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80" name="Recorded Sound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2" descr="H:\New Folder\the sitter\man laughin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282" name="Recorded Sound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6000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6:01:46Z</dcterms:created>
  <dc:creator>Student1</dc:creator>
  <dc:description/>
  <dc:language>en-US</dc:language>
  <cp:lastModifiedBy>Student1</cp:lastModifiedBy>
  <dcterms:modified xsi:type="dcterms:W3CDTF">2009-11-23T16:31:29Z</dcterms:modified>
  <cp:revision>13</cp:revision>
  <dc:subject/>
  <dc:title>The Sitter</dc:title>
</cp:coreProperties>
</file>